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21.png" ContentType="image/png"/>
  <Override PartName="/ppt/media/image20.wmf" ContentType="image/x-wmf"/>
  <Override PartName="/ppt/media/image4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B1E2-7C89-452B-BE57-772925FA3574}" type="slidenum"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B59C-946A-4A27-B459-81EAECF3D72C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550B-AC7E-4B6D-8321-141FC692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762-F46E-4EFA-B1C3-D9D433ADB1BB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B0B1-FC6D-4BA8-AAEB-125858BECEE9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ECD5-F512-455C-A9A8-6E26FD5958B9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34E6-3A01-4B1A-819A-853BB994A4B3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3707-9814-4613-8F99-CD392006F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50AB-1C16-4604-BDE2-0B557B524452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019F-61E7-4F82-8C54-6F1F754D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CF61-BE20-4469-9128-2EA785D4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3EC2-4FF8-44CC-951B-BF9206EA32C9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84B-98F9-47A3-9429-202BA61B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D202-A378-4CF8-8BBB-AEC0E0F5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FD5D-35F0-401B-874B-0C204CFD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757-1263-49A2-9658-F7E56FEB6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7A80-B48A-4B55-924D-F256A8655CF0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894C-C00F-4590-9BF7-7B3259A83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16B-2A5A-4DDC-8071-DE7AC00F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7436-07E0-4032-A528-21FDFCF9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BF32-F58B-422B-A182-90F23C150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4680-7B09-4167-93E7-AE03B78A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FC58-5272-469F-B378-035A3F9D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62F-1ABA-40AC-B95D-6C9B35F6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BCC9-69C0-4D15-B705-E0415B847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F156-DF0C-4FFF-A681-B2CCFDC08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14B6-B56B-468C-BD57-F84F9026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C6B0-CEEC-449E-BFF7-0DE0A94AD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493-EA29-4B11-A507-0A9EF74E0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2E97-4935-4FD0-92AF-CA473354C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4E65-F086-42B5-B196-29280D0D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5105-F37B-4497-9DB3-DF785D41B6E2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9E91-FB2E-4ABC-8C29-D8BFD18F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49F9-978F-44DB-874C-F8A7D75B0BA5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2E61-A65F-46ED-8DD6-EAFDF684EBCB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F1B-37A8-40DD-9B60-6B86AC2B263F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0C8-714D-44D0-9E2E-44266461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38A-471C-4762-B642-B128CAA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4D3-C102-4839-9E60-7CB14B54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5F5-B606-4A95-A833-EE199CF1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F7D4-8ACF-443F-8F17-1C4543ED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EE50-163A-4629-8E21-B0D16B4D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6785-EAC2-4EEB-8948-6474AF45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DD7C-A7A6-4143-9E72-F1A369FC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FFA7-89DC-455E-8F4F-E72F396C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126F-0AA4-425C-8AB6-283536C9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35CE-E2BE-465A-B6B8-85196B42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AE2-CD5C-42A5-A321-DB71C19B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C68F-F318-4EDA-BB3C-912128BC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5A5E-D783-41F7-970D-A6134DE7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0314-5222-4FE2-ADE2-1CB39900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7156-4BB7-44D9-9A5A-547F7000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BF46-F2FD-4FF1-B717-5A189C85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09E4-6C37-41E7-AA06-629239FB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F2D05-57C3-484F-9644-C32104E6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B1CB-0388-4364-83E8-B3048A15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3DE64-1E77-4BB3-9925-F036EBF7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450D-1A91-4EBB-B93C-8AC0CB0D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3A2-9240-4084-845E-1D0F288A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3A85-D47C-46CE-AFC1-49970DAF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2724-6C6E-4FB6-966D-F7A87D04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BF90-252C-41D0-8022-881A2B86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6BE2-70B3-43E4-8DD3-11D0141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67F2-060F-4062-A54A-7639E2AC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682F-DA34-4976-9663-10DE354D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CDBC-8FB2-415D-90CA-82745542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FB09-12A1-44A5-88AE-37F12845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96F5-6797-4D61-8B43-561700F0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C5AE-B65F-41B8-BB2A-629A900A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87B-E1D7-41E4-9422-C368FF33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4856-B345-49D1-BD58-719977F2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E6F5-1369-4596-9E53-B92D25D7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0C18-3036-46F7-A5D9-4C10F0B6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65D3-34C1-4A38-A8F2-B72CE456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524D-3C41-4085-9AF1-C8E0872D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12C3D-DBE2-47EA-9AE7-2E34F2A3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48E0-22AA-41A6-A12C-78526640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8E14-4DD8-4133-8610-A015CE1C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4E94-F81A-4860-A30C-FA3FC75F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747-5158-42DA-AFF3-CB2DCEDC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6EA-E276-4859-A82B-14499F5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419-478D-4425-B229-1C4B2FCD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9B9-921D-493B-8678-432B483D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063-4BFD-40F7-842B-9C47EFFB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EF7D-2BD5-404B-8A92-EAF011D36D2F}" type="slidenum">
              <a:rPr b="0" lang="en-S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e3e9f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7976-152B-4421-99CB-D262D04F4C26}" type="slidenum">
              <a:rPr b="0" lang="en-S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41B8-3D05-4071-B31B-F17D1BD360E5}" type="slidenum">
              <a:rPr b="0" lang="en-S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e3e9f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A0A1-4E3D-496B-A836-0C58A572C9FC}" type="slidenum">
              <a:rPr b="0" lang="en-S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r &amp; Atm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1149120"/>
            <a:ext cx="754380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air pollutants include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unburnt hydrocarbons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methane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83808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Verdana"/>
              </a:rPr>
              <a:t>Other Pollutants</a:t>
            </a:r>
            <a:r>
              <a:rPr b="1" lang="en-AU" sz="1800" spc="-1" strike="noStrike">
                <a:solidFill>
                  <a:srgbClr val="3f3f2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1004760" y="3006720"/>
            <a:ext cx="7337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nburnt hydrocarbons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re released in car exhaus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938160" y="4094280"/>
            <a:ext cx="754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thane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</a:t>
            </a:r>
            <a:r>
              <a:rPr b="0" lang="en-A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colourless and odourless gas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produced when plant and animal matter </a:t>
            </a:r>
            <a:r>
              <a:rPr b="0" lang="en-A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decay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950760" y="5148360"/>
            <a:ext cx="754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lso produced from the </a:t>
            </a:r>
            <a:r>
              <a:rPr b="0" lang="en-A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decay of rubbish in landfills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963720" y="6154560"/>
            <a:ext cx="754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thane is a </a:t>
            </a:r>
            <a:r>
              <a:rPr b="0" lang="en-A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greenhouse gas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ects of Air Pol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usually has a pH that is slightly below 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in the air dissolves in rainwater to form  carbonic acid, which is a weak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cid rain has a pH value of 4 or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508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8440" y="0"/>
            <a:ext cx="91458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270000" y="6219720"/>
            <a:ext cx="41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animation on Acid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5400" y="1587600"/>
            <a:ext cx="83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Acid rain is formed when acidic air pollutants such as sulfur dioxide (SO</a:t>
            </a:r>
            <a:r>
              <a:rPr b="0" lang="en-SG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) and nitrogen dioxide (NO</a:t>
            </a:r>
            <a:r>
              <a:rPr b="0" lang="en-SG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SG" sz="2200" spc="-1" strike="noStrike">
                <a:solidFill>
                  <a:srgbClr val="000000"/>
                </a:solidFill>
                <a:latin typeface="Arial"/>
              </a:rPr>
              <a:t>) dissolve in rain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Sulfur dioxide dissolves in water to form </a:t>
            </a:r>
            <a:r>
              <a:rPr b="1" lang="en-AU" sz="2200" spc="-1" strike="noStrike">
                <a:solidFill>
                  <a:srgbClr val="ff0000"/>
                </a:solidFill>
                <a:latin typeface="Arial"/>
              </a:rPr>
              <a:t>sulphurous acid 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(H</a:t>
            </a:r>
            <a:r>
              <a:rPr b="0" lang="en-AU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AU" sz="2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).</a:t>
            </a:r>
            <a:r>
              <a:rPr b="1" lang="en-AU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Chemical equation: S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g) + H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O(</a:t>
            </a:r>
            <a:r>
              <a:rPr b="0" i="1" lang="en-AU" sz="2200" spc="-1" strike="noStrike">
                <a:solidFill>
                  <a:srgbClr val="3f3f2c"/>
                </a:solidFill>
                <a:latin typeface="Arial"/>
              </a:rPr>
              <a:t>l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) </a:t>
            </a:r>
            <a:r>
              <a:rPr b="0" lang="en-AU" sz="2200" spc="-1" strike="noStrike">
                <a:solidFill>
                  <a:srgbClr val="3f3f2c"/>
                </a:solidFill>
                <a:latin typeface="Wingdings"/>
                <a:ea typeface="Wingdings"/>
              </a:rPr>
              <a:t>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 H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S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3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In the presence of oxygen in the air, acid is slowly oxidised to sulphuric acid (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AU" sz="2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0" lang="en-AU" sz="2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).</a:t>
            </a:r>
            <a:r>
              <a:rPr b="1" lang="en-AU" sz="2200" spc="-1" strike="noStrike">
                <a:solidFill>
                  <a:srgbClr val="3f3f2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3f3f2c"/>
                </a:solidFill>
                <a:latin typeface="Arial"/>
              </a:rPr>
              <a:t> 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In the presence of oxygen and water,</a:t>
            </a:r>
            <a:r>
              <a:rPr b="0" lang="en-AU" sz="2200" spc="-1" strike="noStrike">
                <a:solidFill>
                  <a:srgbClr val="ff0000"/>
                </a:solidFill>
                <a:latin typeface="Arial"/>
              </a:rPr>
              <a:t> nitrogen dioxide is converted to nitric acid.</a:t>
            </a:r>
            <a:r>
              <a:rPr b="1" lang="en-AU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	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4N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g) + 2H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O(</a:t>
            </a:r>
            <a:r>
              <a:rPr b="0" i="1" lang="en-AU" sz="2200" spc="-1" strike="noStrike">
                <a:solidFill>
                  <a:srgbClr val="3f3f2c"/>
                </a:solidFill>
                <a:latin typeface="Arial"/>
              </a:rPr>
              <a:t>l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) + 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2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g) </a:t>
            </a:r>
            <a:r>
              <a:rPr b="0" lang="en-AU" sz="2200" spc="-1" strike="noStrike">
                <a:solidFill>
                  <a:srgbClr val="3f3f2c"/>
                </a:solidFill>
                <a:latin typeface="Wingdings"/>
                <a:ea typeface="Wingdings"/>
              </a:rPr>
              <a:t>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 4HNO</a:t>
            </a:r>
            <a:r>
              <a:rPr b="0" lang="en-AU" sz="2200" spc="-1" strike="noStrike" baseline="-25000">
                <a:solidFill>
                  <a:srgbClr val="3f3f2c"/>
                </a:solidFill>
                <a:latin typeface="Arial"/>
              </a:rPr>
              <a:t>3</a:t>
            </a:r>
            <a:r>
              <a:rPr b="0" lang="en-AU" sz="2200" spc="-1" strike="noStrike">
                <a:solidFill>
                  <a:srgbClr val="3f3f2c"/>
                </a:solidFill>
                <a:latin typeface="Arial"/>
              </a:rPr>
              <a:t>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83808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ffects of acid 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425520" y="1050840"/>
            <a:ext cx="8396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des metal structures such as fences and brid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acts with carbon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marble and limeston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ces 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 of natural water bodies to below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wi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ill fish and other aquatic life.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ach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ortant nutr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so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stroys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2"/>
          <a:stretch/>
        </p:blipFill>
        <p:spPr>
          <a:xfrm>
            <a:off x="4797360" y="4108320"/>
            <a:ext cx="3272040" cy="245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3"/>
          <a:stretch/>
        </p:blipFill>
        <p:spPr>
          <a:xfrm>
            <a:off x="1614600" y="4095720"/>
            <a:ext cx="28209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ducing effects of Acid 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ytic Conver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9"/>
          <p:cNvSpPr/>
          <p:nvPr/>
        </p:nvSpPr>
        <p:spPr>
          <a:xfrm>
            <a:off x="990720" y="1523880"/>
            <a:ext cx="7010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ttached to the exhaust system of a ca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cataly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- platinum and rhodi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9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167680" cy="21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9"/>
          <p:cNvSpPr/>
          <p:nvPr/>
        </p:nvSpPr>
        <p:spPr>
          <a:xfrm>
            <a:off x="372960" y="1135080"/>
            <a:ext cx="84362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Arial"/>
              </a:rPr>
              <a:t>Catalytic converters involve the us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dox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monoxide is oxidised to carbon dioxide. Oxides of nitrogen are reduced to nit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. Nitrogen monoxide + carbon monoxid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itrogen +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NO (g) + 2 CO (g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2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burnt hydrocarbons are oxidised to carbon dioxide an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g. Octane + oxy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rbon dioxide + water vap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 25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6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18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83808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atalytic Conver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ong ru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control air pollution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less fossil fu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9880" y="30492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ph Priest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9880" y="990360"/>
            <a:ext cx="4724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experiments and observations of different kinds of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to isolat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the first carbonated soft dri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260028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1295280" y="3429000"/>
            <a:ext cx="2471760" cy="3324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5145120" y="3581280"/>
            <a:ext cx="2855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38080" y="1676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ways of minimising the effects of sulfur dioxide pol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838080" y="9144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e Gas Desulfu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914400" y="2743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Remove sulfur from fossil fuels before burning. However, this method is too expensive and diffic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914400" y="4114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Remove sulfur dioxide from the waste g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flue gase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b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cess known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esulfu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2"/>
          <a:stretch/>
        </p:blipFill>
        <p:spPr>
          <a:xfrm>
            <a:off x="7010280" y="41148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38080" y="92376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Happens in Desulfuris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914400" y="1828800"/>
            <a:ext cx="7543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lfur dioxide reacts with an aqueous suspension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form soli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cium sulfi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3200400"/>
            <a:ext cx="6476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CaC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s) + S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g) </a:t>
            </a:r>
            <a:r>
              <a:rPr b="0" lang="en-US" sz="2600" spc="-1" strike="noStrike">
                <a:solidFill>
                  <a:srgbClr val="0551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 CaS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s) + C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990720" y="4038480"/>
            <a:ext cx="754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alcium sulfite is further oxidised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cium sulf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atmospheric oxyg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905120" y="5029200"/>
            <a:ext cx="6476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CaS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s) + 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g) </a:t>
            </a:r>
            <a:r>
              <a:rPr b="0" lang="en-US" sz="2600" spc="-1" strike="noStrike">
                <a:solidFill>
                  <a:srgbClr val="0551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 2CaSO</a:t>
            </a:r>
            <a:r>
              <a:rPr b="0" lang="en-US" sz="2600" spc="-1" strike="noStrike" baseline="-25000">
                <a:solidFill>
                  <a:srgbClr val="0551ff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551ff"/>
                </a:solidFill>
                <a:latin typeface="Arial"/>
              </a:rPr>
              <a:t>(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9840" y="286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rol of Air Pollution in 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2286000"/>
            <a:ext cx="7696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990720" y="167472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Prohibition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use of open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ir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or the disposal of domestic and industrial wa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tion of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unleaded petro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phasing out of leaded pe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duction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ermissible level of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ulfur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ies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tting of all petrol-driven vehicles with 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talytic co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etion of the Ozon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2057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ur ozone layer being deple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3124080" y="252360"/>
            <a:ext cx="5588280" cy="63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z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262400" y="609480"/>
            <a:ext cx="468792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zone is a bluish, very reactive gas, whose molecule is made by three oxygen atoms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ow altitudes, it can cause breathing difficulties and photochemical sm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 the stratosphere, the ozone layer shields us fro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ltraviolet ra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s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551ff"/>
                </a:solidFill>
                <a:latin typeface="Arial"/>
              </a:rPr>
              <a:t>Note: UV radiation can cause skin cancer, genetic mutations and catar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Content Placeholder 5" descr="form_ozone.gif"/>
          <p:cNvPicPr/>
          <p:nvPr/>
        </p:nvPicPr>
        <p:blipFill>
          <a:blip r:embed="rId2"/>
          <a:stretch/>
        </p:blipFill>
        <p:spPr>
          <a:xfrm>
            <a:off x="474840" y="166212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270000" y="6219720"/>
            <a:ext cx="41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video on O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causing the depletion of ozone in the stratosp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1295280" y="1905120"/>
            <a:ext cx="670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Times New Roman"/>
              </a:rPr>
              <a:t>Chlorofluorocarbons (CFC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1219320" y="29862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ompounds containing the elements carbon, fluorine and chlor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dely used as </a:t>
            </a:r>
            <a:r>
              <a:rPr b="0" lang="en-US" sz="2000" spc="-1" strike="noStrike">
                <a:solidFill>
                  <a:srgbClr val="0551ff"/>
                </a:solidFill>
                <a:latin typeface="Arial"/>
              </a:rPr>
              <a:t>propellants for aeros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s</a:t>
            </a:r>
            <a:r>
              <a:rPr b="0" lang="en-US" sz="2000" spc="-1" strike="noStrike">
                <a:solidFill>
                  <a:srgbClr val="0551ff"/>
                </a:solidFill>
                <a:latin typeface="Arial"/>
              </a:rPr>
              <a:t> coolants in refrigerators and air conditio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7" descr=""/>
          <p:cNvPicPr/>
          <p:nvPr/>
        </p:nvPicPr>
        <p:blipFill>
          <a:blip r:embed="rId2"/>
          <a:stretch/>
        </p:blipFill>
        <p:spPr>
          <a:xfrm>
            <a:off x="685800" y="0"/>
            <a:ext cx="845820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arbon 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22860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785880" y="3181320"/>
            <a:ext cx="41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video on Carbo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811080" y="1557360"/>
            <a:ext cx="7620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551ff"/>
                </a:solidFill>
                <a:latin typeface="Arial"/>
                <a:ea typeface="Times New Roman"/>
              </a:rPr>
              <a:t>The mechanism that maintains the level of carbon dioxide in the atmosphere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s called the </a:t>
            </a:r>
            <a:r>
              <a:rPr b="1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cycle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3"/>
          <p:cNvSpPr/>
          <p:nvPr/>
        </p:nvSpPr>
        <p:spPr>
          <a:xfrm>
            <a:off x="0" y="22860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171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cesses </a:t>
            </a:r>
            <a:r>
              <a:rPr b="0" lang="en-US" sz="2800" spc="-1" strike="noStrike">
                <a:solidFill>
                  <a:srgbClr val="0551ff"/>
                </a:solidFill>
                <a:latin typeface="Arial"/>
              </a:rPr>
              <a:t>produ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bon diox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838080" y="1379520"/>
            <a:ext cx="76201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spi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respiration, carbon and hydrogen compounds in food are converted into carbon dioxide and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3240" y="3909960"/>
            <a:ext cx="76201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2. Combustion of f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fuels contain both carbon and hydrogen. When these fuels are burnt, carbon dioxide and water are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2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at energy is also given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ir consist o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838080" y="1447920"/>
            <a:ext cx="594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x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several g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5486400" y="2819520"/>
            <a:ext cx="3429000" cy="1646280"/>
          </a:xfrm>
          <a:prstGeom prst="rect">
            <a:avLst/>
          </a:prstGeom>
          <a:solidFill>
            <a:srgbClr val="c0c0c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ir is a mixture,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 varies from time to time and from place to 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2120" y="2057400"/>
          <a:ext cx="4343400" cy="337356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ion by vol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ble gases (mainly argon) 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on diox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54"/>
          <p:cNvSpPr/>
          <p:nvPr/>
        </p:nvSpPr>
        <p:spPr>
          <a:xfrm>
            <a:off x="2971800" y="2808360"/>
            <a:ext cx="2133720" cy="2601720"/>
          </a:xfrm>
          <a:prstGeom prst="rect">
            <a:avLst/>
          </a:prstGeom>
          <a:noFill/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3"/>
          <p:cNvSpPr/>
          <p:nvPr/>
        </p:nvSpPr>
        <p:spPr>
          <a:xfrm>
            <a:off x="0" y="22860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52520" y="1598760"/>
            <a:ext cx="76197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photosynthesis, green plants convert carbon dioxide and water into glucose and oxygen in the presence of sun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+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tle 5"/>
          <p:cNvSpPr/>
          <p:nvPr/>
        </p:nvSpPr>
        <p:spPr>
          <a:xfrm>
            <a:off x="466560" y="336600"/>
            <a:ext cx="822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cesses </a:t>
            </a:r>
            <a:r>
              <a:rPr b="0" lang="en-US" sz="2800" spc="-1" strike="noStrike">
                <a:solidFill>
                  <a:srgbClr val="0551ff"/>
                </a:solidFill>
                <a:latin typeface="Arial"/>
              </a:rPr>
              <a:t>rem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1066680" y="0"/>
            <a:ext cx="7010640" cy="52023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762120" y="5562720"/>
            <a:ext cx="76197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the other types of greenhouse gas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thane (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and nitrous oxide (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914400" y="12952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762120" y="1371600"/>
            <a:ext cx="76197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551ff"/>
                </a:solidFill>
                <a:latin typeface="Arial"/>
                <a:ea typeface="Times New Roman"/>
              </a:rPr>
              <a:t>The natural greenhouse effect is crucial for maintaining the proper temperature needed to sustain life on Eart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these greenhouse gases, Earth’s surface temperature would be –40 °C and it would be permanently covered with 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800280" y="1295280"/>
            <a:ext cx="754380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eenhouse gases, such as carbon dioxide, are building up rapidly in the atmosphe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activities like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burning of fossil fuels and large scale cutting down of for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2"/>
          <a:stretch/>
        </p:blipFill>
        <p:spPr>
          <a:xfrm>
            <a:off x="4289400" y="3672000"/>
            <a:ext cx="3591000" cy="2382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3"/>
          <a:stretch/>
        </p:blipFill>
        <p:spPr>
          <a:xfrm>
            <a:off x="863640" y="3724200"/>
            <a:ext cx="3219480" cy="24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800280" y="1295280"/>
            <a:ext cx="754380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refore, carbon dioxide is being added to the atmosphere at a higher rate than photosynthesis can remove the excess 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effect of carbon dioxide build-up i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an increase in the Earth’s average temperatu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wa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0" y="228600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23800" y="1125360"/>
            <a:ext cx="757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ecrease in crop yields world-wide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the areas that are currently covered by vegetation may become deserts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elting of large quantities of ice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North Pole and South Pole. This will cause the levels of oceans to rise and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loo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ow-lying countries such as the Netherland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apid evaporation of water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Earth’s surface. When this happens, carbon dioxide dissolved in the oceans will be driven out into the atmosphere. This adds further to the greenhouse eff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of Global Warm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41440" y="6181560"/>
            <a:ext cx="41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video on global wa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paration of Air into its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4" descr=""/>
          <p:cNvPicPr/>
          <p:nvPr/>
        </p:nvPicPr>
        <p:blipFill>
          <a:blip r:embed="rId2"/>
          <a:srcRect l="3363" t="0" r="0" b="0"/>
          <a:stretch/>
        </p:blipFill>
        <p:spPr>
          <a:xfrm>
            <a:off x="0" y="3219480"/>
            <a:ext cx="9144000" cy="3186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6"/>
          <p:cNvSpPr/>
          <p:nvPr/>
        </p:nvSpPr>
        <p:spPr>
          <a:xfrm>
            <a:off x="10666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is fir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o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mpres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liq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4495680" y="16765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quid air is then separated into its constituents (or fractions)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ractional distil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304920" y="5791320"/>
            <a:ext cx="3504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air pollutants &amp; it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Pollu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1257480" y="1343160"/>
            <a:ext cx="65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pol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condition in which air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 high concentration of certain chemic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ay harm living things or damage non-living th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1295280" y="3048120"/>
            <a:ext cx="6324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ir pollution is caused by solid particles and poisonous gases in the 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1219320" y="4191120"/>
            <a:ext cx="6705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ir pollutants inclu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rbon monoxide, oxides of nitro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sulphur diox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1217520" y="5335560"/>
            <a:ext cx="6705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video on Air Pollu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31840" y="322200"/>
          <a:ext cx="8705880" cy="5926320"/>
        </p:xfrm>
        <a:graphic>
          <a:graphicData uri="http://schemas.openxmlformats.org/drawingml/2006/table">
            <a:tbl>
              <a:tblPr/>
              <a:tblGrid>
                <a:gridCol w="1706400"/>
                <a:gridCol w="3578400"/>
                <a:gridCol w="342108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ll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jo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rmful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2520">
                <a:tc>
                  <a:txBody>
                    <a:bodyPr lIns="0" rIns="0" tIns="0" bIns="0" anchor="t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a) Carbon monox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 indent="9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complete combustion of carbon-containing substances eg. charcoal, wood, petrol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 indent="9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620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arbon monoxide reacts with haemoglobin in the blood to form carboxyhaemoglobin so the haemoglobin cannot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ranspor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xygen to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st of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ody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 Cause headaches, fatigue breathing difficulties or even de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8" name="Picture 1" descr=""/>
          <p:cNvPicPr/>
          <p:nvPr/>
        </p:nvPicPr>
        <p:blipFill>
          <a:blip r:embed="rId2"/>
          <a:srcRect l="10614" t="0" r="11265" b="0"/>
          <a:stretch/>
        </p:blipFill>
        <p:spPr>
          <a:xfrm>
            <a:off x="7230960" y="2717640"/>
            <a:ext cx="1630440" cy="2086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2033640" y="2606760"/>
            <a:ext cx="31305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231840" y="322200"/>
          <a:ext cx="8731080" cy="5935680"/>
        </p:xfrm>
        <a:graphic>
          <a:graphicData uri="http://schemas.openxmlformats.org/drawingml/2006/table">
            <a:tbl>
              <a:tblPr/>
              <a:tblGrid>
                <a:gridCol w="1620720"/>
                <a:gridCol w="4278240"/>
                <a:gridCol w="283212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ll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jo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rmful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960">
                <a:tc>
                  <a:txBody>
                    <a:bodyPr lIns="0" rIns="0" tIns="0" bIns="0" anchor="t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b) Oxides of nit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eg. nitrogen monoxide, NO &amp; nitrogen dioxide, NO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actions that occur in car engines (</a:t>
                      </a:r>
                      <a:r>
                        <a:rPr b="1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nternal combustion engines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) From light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itrogen reacts with oxygen in the air to form nitrogen monoxid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 + 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2NO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itrogen monoxide reacts with oxygen to form nitrogen dioxide (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9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NO (g) + 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2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) Eye irr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) Brea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ifficul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) Lung inflammation (bronchit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) Acid r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Picture 15" descr=""/>
          <p:cNvPicPr/>
          <p:nvPr/>
        </p:nvPicPr>
        <p:blipFill>
          <a:blip r:embed="rId2"/>
          <a:stretch/>
        </p:blipFill>
        <p:spPr>
          <a:xfrm>
            <a:off x="6153120" y="3306600"/>
            <a:ext cx="2681280" cy="2011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3"/>
          <a:stretch/>
        </p:blipFill>
        <p:spPr>
          <a:xfrm>
            <a:off x="6168960" y="4735440"/>
            <a:ext cx="2683080" cy="19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98520" y="617400"/>
          <a:ext cx="8396280" cy="5569200"/>
        </p:xfrm>
        <a:graphic>
          <a:graphicData uri="http://schemas.openxmlformats.org/drawingml/2006/table">
            <a:tbl>
              <a:tblPr/>
              <a:tblGrid>
                <a:gridCol w="1646280"/>
                <a:gridCol w="3659040"/>
                <a:gridCol w="3090960"/>
              </a:tblGrid>
              <a:tr h="397800">
                <a:tc>
                  <a:txBody>
                    <a:bodyPr lIns="0" rIns="0" tIns="0" bIns="0" anchor="ctr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oll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jo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rmful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1400">
                <a:tc>
                  <a:txBody>
                    <a:bodyPr lIns="0" rIns="0" tIns="0" bIns="0" anchor="t">
                      <a:noAutofit/>
                    </a:bodyPr>
                    <a:p>
                      <a:pPr marL="54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SG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c) Sulfur diox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6400" indent="-457200"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mbustion of sulfur containing fossil fuels (especially co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) volcano eru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ulfur reacts with oxygen in the air to form sulfur dioxid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64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 (g) + 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2S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) Eye irr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) Brea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ifficul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) Lung inflammation (bronchit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6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) Acid r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2511360" y="2614680"/>
            <a:ext cx="2259000" cy="1700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"/>
          <p:cNvPicPr/>
          <p:nvPr/>
        </p:nvPicPr>
        <p:blipFill>
          <a:blip r:embed="rId3"/>
          <a:stretch/>
        </p:blipFill>
        <p:spPr>
          <a:xfrm>
            <a:off x="5776920" y="3629160"/>
            <a:ext cx="2971800" cy="236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44:27Z</dcterms:created>
  <dc:creator>Chew Meng</dc:creator>
  <dc:description/>
  <dc:language>en-US</dc:language>
  <cp:lastModifiedBy>MOE, SINGAPORE</cp:lastModifiedBy>
  <dcterms:modified xsi:type="dcterms:W3CDTF">2011-12-15T03:21:14Z</dcterms:modified>
  <cp:revision>39</cp:revision>
  <dc:subject/>
  <dc:title>Slide 1</dc:title>
</cp:coreProperties>
</file>